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57F-8D2D-4CC0-88BC-AA97AB23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663-CF23-45EE-803F-7517E052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34C-CE33-4C65-AB0B-3CC4ED13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25A-64E1-4CE7-A44B-BDE7EFC9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F2C-E415-440F-BADF-B648CC60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724-D743-4361-A2A1-B7A5E5BF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38A-3DF3-4047-B5A8-CC4E325A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6A8B-E2F5-477C-803B-4EB54F3C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7FB-0100-417F-9B8A-3A8B9503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680A-1DE6-4C74-A82A-8BB36B71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A58-E324-4A46-AD0B-FFE85E37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5D5-D4B3-450D-81F2-82BCD0FD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80A3-6BCD-4CE9-A300-BA335A4BE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619280"/>
            <a:ext cx="734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Root Beer Sit-I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FACT OR OPI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95480" y="654120"/>
            <a:ext cx="36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Fact vs. Opi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5080" y="1793880"/>
            <a:ext cx="25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048120"/>
            <a:ext cx="796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Which one of these sentences is a f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emember:  A fact is something that is known to be  true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eal.  Most importantly, a fact can be prov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876920"/>
            <a:ext cx="72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ow can you prove that a statement is actually a f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5562720"/>
            <a:ext cx="83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ich one of these statements can be proven?  Where 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e look to prove it?  Can the other sentence be pr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467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ophie is a girl in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ophie’s daddy made better root beers than everyone the United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0640" y="228600"/>
            <a:ext cx="90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ad this example and decide if it is fact or fiction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771560"/>
            <a:ext cx="87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he girls lived in Keokuk, Iow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457200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FA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65440" y="324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066680"/>
            <a:ext cx="923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Sophie’s daddy Silas Soifer mad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the best root beer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210200"/>
            <a:ext cx="34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OPIN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685800"/>
            <a:ext cx="775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4138560"/>
            <a:ext cx="458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OPIN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1090440"/>
            <a:ext cx="73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Root beer doesn’t taste g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38088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42120" y="4062240"/>
            <a:ext cx="180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FAC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066680"/>
            <a:ext cx="7443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Benola and Sophie had a sit-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at Sophie’s soda fountain and drugsto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68580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Sophie and Benola both thought it was important to be able to sit together.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94280" y="3300480"/>
            <a:ext cx="184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F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62856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Benola was more scared than Sophie to have the sit-in.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3681360"/>
            <a:ext cx="492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OPINION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04440" y="933480"/>
            <a:ext cx="60145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acts              vs.              Opin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3716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1:23Z</dcterms:created>
  <dc:creator>User</dc:creator>
  <dc:description/>
  <dc:language>en-US</dc:language>
  <cp:lastModifiedBy>Rutherford County Schools</cp:lastModifiedBy>
  <dcterms:modified xsi:type="dcterms:W3CDTF">2007-04-21T15:52:19Z</dcterms:modified>
  <cp:revision>13</cp:revision>
  <dc:subject/>
  <dc:title>No Slide Title</dc:title>
</cp:coreProperties>
</file>